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5A0-DB3A-4D93-8327-C5AAB7A4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B6E-A316-40F9-A488-21A4B65A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863-3439-45E9-9102-ACA097DB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90AF-CE60-4423-BE7B-6071978E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0581-47B9-4E6B-A700-62A8F993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D05E-85C3-432C-A6A4-63CBD5E4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E7E5-289A-4FC2-83C3-CDC531E7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997B-AAED-47AA-8E79-661248FB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A228-68EC-467B-9821-C5371CD4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7200-CB1A-4D9A-8A9F-3E3CEB0D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1406-249B-4497-838E-273D8B05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D58-0EAF-4AAF-AB89-DD2BD9FB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AC83-56CE-444D-AB50-56EDFB31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1C9A-A5E2-4D0E-9077-03E5636A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A4C4-49EE-4E9A-9564-FDDD6BDA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AD3D-0547-4BED-8A30-B0F1714B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0575-14A1-4839-BD1F-76C669BB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8C33-EF61-44E6-A53F-7A8B79ED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F3B-28C8-4EB0-92F7-A417ECAE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2A1-5148-48E6-ACE7-20A1F2BF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D63-3600-4BCC-AFD3-A224F676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04E-774F-4F5E-A319-9FD15F2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9CD-06DF-4B2C-B5BC-3AC3B706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574-B8A1-44E5-BF69-1D38411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1053-7DBE-4362-8577-4F88FE04FA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BE96-2E9A-46FA-8B9E-F025A2C94A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FEAD-3C91-4B5F-9461-8469E41C7B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362320"/>
            <a:ext cx="8229600" cy="22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линичка фармација 1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давање бр.4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СНОВНИ ПРИНЦИПИ ФАРМАЦИЈЕ ЗАСНОВАНЕ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 НА ДОКАЗИМА (ФЗД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1371600" y="142920"/>
            <a:ext cx="60530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EE6-0590-4B12-BD39-F117E6C1A2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хтева вештине од лекара и  фармацеут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етраживање литературе 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ну одређених правила за евалуацију доказа из литератур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DDEB-79F6-49F3-BDBD-52E3759AFF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удије које процењују ефикасност и безбедност неког терапијског поступка или лека на пацијентима се називају клиничким студијама у ужем смислу реч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њима се заснива савремена терапијска пракса, тако да је од огромног значаја правилно проценит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алидност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линичку значајност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квих студија, и одбацити оне које нас заводе на погрешан пу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94D4-9EC6-410D-99A3-A1B73F3A38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алидна клиничка студија мора да испуни следеће услове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ора бит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ндомизирана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тј. пацијенти су по принципу случајног избора сврстани у експерименталну и контролну групу) 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двоструко слеп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тј. ни испитивачи, ни пацијенти нису знали ко прима плацебо, а ко активну контролу)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 контролна група и група која прима нови третман морају бит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о свему сличне на почетку студије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и морају се третирати на исти начин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ви пацијент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који су ушли у студију морају бити узети у обзир приликом извођења закључака, и анализирани у групама у којима су били на почетку (дозвољиво је да највише 20% болесника који су ушли у студију, исту не заврши до краја, већ раније «испадне» из даљег лечења и праћења)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B8DB-8F1F-4876-8481-84AE00B425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начајност клиничке студ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ра се  узети у обзир апсолутно смањење ризика које носи нови лек, и утврдити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број болесника које треба лечити новим леком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да би се избегао нежељени исход код једног од њих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sr-Latn-CS" sz="3000" spc="-1" strike="noStrike">
                <a:solidFill>
                  <a:srgbClr val="ff0000"/>
                </a:solidFill>
                <a:latin typeface="Verdana"/>
              </a:rPr>
              <a:t>Number Needed to Treat -NNT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0C1-A039-4941-8962-342DD5A612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Интерпретација риз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1   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NNT=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redukcija apsolutnog rizik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2514600" y="251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52280" y="4495680"/>
            <a:ext cx="87631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Relativni rizik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kontrolnojgru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90920" y="49528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85800" y="5638680"/>
            <a:ext cx="8001000" cy="457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relativnog rizika = 1 – relativni riz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52280" y="3352680"/>
            <a:ext cx="8763120" cy="974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apsolutnog rizika = rizik u kontrolnoj grupi – rizik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F14F-C724-41D0-BCCE-B39E1F6AF0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Интерпретација риз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ример: Студија је дизајнирана да упореди терапију симвастатином (н=2221) у односу на плацебо (н=2223) и инциденцу смрти узроковане кардиоваскуларним болестима. Инциденца: (симвастатин) н=182; (плацебо) н=25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РР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(релативни ризик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)=182/256=0.71(71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РРР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(редукција релативног ризик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)=1-РР=1-0.71=0.29 (29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АРР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(редукција апсолутног ризик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)= (256/2223)- (182/2221) = 0.033 (3.3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ННТ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= 1/АРР=1/0.033 = 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E6D1-9959-4086-9360-AAA6620300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тра се да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ајан ефекат постоји када треба лечити мање од 15 болесни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а би се избегао нежељени исход код једног од њих, али то је само слободна процена, која доста зависи од тежине нежељеног исход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ко је нежељени исход смрт, онда можда вреди лечити и 20 болесника да би се један од њих спасао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372D-934E-4D49-A2FA-774CEE8CCD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ритеријуми за процену валидности и клиничке значајности студије прогностичког факт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Да би студија прогностичког фактора била валидна, она мора да прати </a:t>
            </a:r>
            <a:r>
              <a:rPr b="1" i="1" lang="sr-CS" sz="3000" spc="-1" strike="noStrike" u="sng">
                <a:solidFill>
                  <a:srgbClr val="000000"/>
                </a:solidFill>
                <a:uFillTx/>
                <a:latin typeface="Verdana"/>
              </a:rPr>
              <a:t>репрезентативан 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узорак пацијената, који је </a:t>
            </a:r>
            <a:r>
              <a:rPr b="1" i="1" lang="sr-CS" sz="3000" spc="-1" strike="noStrike" u="sng">
                <a:solidFill>
                  <a:srgbClr val="000000"/>
                </a:solidFill>
                <a:uFillTx/>
                <a:latin typeface="Verdana"/>
              </a:rPr>
              <a:t>довољно велики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sr-CS" sz="3000" spc="-1" strike="noStrike" u="sng">
                <a:solidFill>
                  <a:srgbClr val="000000"/>
                </a:solidFill>
                <a:uFillTx/>
                <a:latin typeface="Verdana"/>
              </a:rPr>
              <a:t>довољно дуго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 да се види какав ће бити исход болест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3382-5275-4D48-A89F-2428BE8180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алидност и клини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и зна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ај ст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ија које се баве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вр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вањем не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ељени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ејстава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ин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и зн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ј с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вр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ђ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је зависно од врсте ст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иј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етодоло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 поглед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о је студија била типа «случај-контрола», онда се као резултат добија однос могућности (енглески “оддс ратио“), који је значајан само ако је једнак или већи од 4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ко је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а била типа клин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е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е или ко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ртне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нда треба видети колики је релативни ризик од настанка н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љеног дејств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ко је он в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од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3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нда рез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тат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е има практ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г смисл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A867-5373-4CF0-B141-3E92E8BE98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рачун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са мог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ћ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сти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релативног риз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762120" y="2209680"/>
          <a:ext cx="7848360" cy="31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848360" cy="3124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4A7E-62EC-458B-81A8-ACCC3E960E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је пажљива, промишљена употреба најбољих доказа из медицинске литературе у доношењу одлуке о лечењу конкретног болесни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дивидуално клиничко искуство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се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мо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интегрисати са резултатима (доказима) клиничких студија, које су методолошки биле добро постављене, и чији резултати имају клинички значај, тј. њихова примена у пракси има смис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0A71-5E24-4C32-9009-63740B2964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ред односа мог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ћ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ости и релативног ризи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рисно је одредити 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псол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но пове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ње ризи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а пример, ако је апсолутни ризик од појаве урођене аномалије мозга код деце чије мајке у трудноћи нису користиле лекове 1%, а код деце чије мајке су узимале антиепилептик валпроат 2%, онда је апсолутно повећање ризика од аномалија мозга са применом валпроата једнако 2% - 1% = 1%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о заправо зн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д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100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јенткиња треб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но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д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има валпроа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а би се код детета само једне од њ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јавиле аномалије мозга на ро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(100/1 = 100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0D18-8AA8-4B5C-970E-EB03856B03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Овакву величину, која представља </a:t>
            </a:r>
            <a:r>
              <a:rPr b="1" i="1" lang="sr-CS" sz="2600" spc="-1" strike="noStrike">
                <a:solidFill>
                  <a:srgbClr val="000000"/>
                </a:solidFill>
                <a:latin typeface="Verdana"/>
              </a:rPr>
              <a:t>реципрочну вредност апсолутног повећања ризи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називамо «број болесника које треба лечити да би се код једног јавило нежељено дејство», или енглески 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нумбер неедед то харм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ННХ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)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ко изр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мо ННХ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оље 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мо раз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ети каквом се заправо ризик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л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јент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имај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ћ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 одр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ни лек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F093-BCC1-4095-B471-7B78A1D19C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етар Петровић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78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 година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Имао је ИМ пре два месеца , добро се осећа, лабораторијски налази показују да има холестерола у границама норма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Међутим, обратио се за савет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sr-CS" sz="1800" spc="-1" strike="noStrike">
                <a:solidFill>
                  <a:srgbClr val="000000"/>
                </a:solidFill>
                <a:latin typeface="Verdana"/>
              </a:rPr>
              <a:t>да ли треба да користи неки лек статин, који је прописан његовом пријатељу који је такође имао ИМ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sr-CS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0AD9-2C5E-4DE8-80A5-729F343AA7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 </a:t>
            </a:r>
            <a:r>
              <a:rPr b="0" lang="sr-Latn-CS" sz="3400" spc="-1" strike="noStrike">
                <a:solidFill>
                  <a:srgbClr val="ff0000"/>
                </a:solidFill>
                <a:latin typeface="Arial Rounded MT Bold"/>
              </a:rPr>
              <a:t>PICO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99452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tient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Код пацијенат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&gt;70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са ИМ ,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али холестерол је у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нормалним вредностима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tervention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реба да се укључи и                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ерапија статином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C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mparison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као додатна терапија  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O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tcome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р смањује морталитет или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морбидите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8172-C417-4380-BB93-F87BEB209C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Verdana"/>
              </a:rPr>
              <a:t>Heart Protection Study  </a:t>
            </a:r>
            <a:r>
              <a:rPr b="0" i="1" lang="en-GB" sz="3300" spc="-1" strike="noStrike">
                <a:solidFill>
                  <a:srgbClr val="000000"/>
                </a:solidFill>
                <a:latin typeface="Verdana"/>
              </a:rPr>
              <a:t>(Lancet 2002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tatin therapy offers a 33% reduction in further CHD events in high risk patients </a:t>
            </a:r>
            <a:r>
              <a:rPr b="1" i="1" lang="en-GB" sz="2900" spc="-1" strike="noStrike">
                <a:solidFill>
                  <a:srgbClr val="000000"/>
                </a:solidFill>
                <a:latin typeface="Verdana"/>
              </a:rPr>
              <a:t>EVEN 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hen cholesterol normal or low</a:t>
            </a:r>
            <a:r>
              <a:rPr b="0" lang="sr-CS" sz="29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Нашем пацијену- Петру Петровићу </a:t>
            </a:r>
            <a:r>
              <a:rPr b="1" lang="sr-CS" sz="2300" spc="-1" strike="noStrike">
                <a:solidFill>
                  <a:srgbClr val="000000"/>
                </a:solidFill>
                <a:latin typeface="Verdana"/>
              </a:rPr>
              <a:t>треба</a:t>
            </a: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 препоручити укључивање статина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EF36-FBBC-4F44-8D56-ABE6421C32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Verdana"/>
              </a:rPr>
              <a:t>ФЗД почиње и завршава се са пацијентом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страживачки алгорит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Формулисати питање у односу на потребе пацијен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ражити одговор са најбољим доказим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ритички вршити процену доказа који смо пронаш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менити резултате у пракс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оцена резулта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F473-E815-4C7E-B055-FC8B86930D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4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Процена резулта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дз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а ефикасно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трошк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одатака о пацијен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рописане терапије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ферентне стоп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пен морталитет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морбидите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0D9C-9B61-45E0-8849-24B97157F8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Кораци у спровођењу 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остављање пробл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етраживање литерату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Критичка обрада литерату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Формулисање одговор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вера применљивости одговор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имена резулта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цена ефеката ФЗД у пракс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EA71-56C2-4EC9-AAE8-81FA3236A2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 је заснована н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24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Verdana"/>
              </a:rPr>
              <a:t>научном методу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кључни извор знања у доношењу клинички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одлу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Diagram 7"/>
          <p:cNvGrpSpPr/>
          <p:nvPr/>
        </p:nvGrpSpPr>
        <p:grpSpPr>
          <a:xfrm>
            <a:off x="3547800" y="1809720"/>
            <a:ext cx="4876920" cy="3926520"/>
            <a:chOff x="3547800" y="1809720"/>
            <a:chExt cx="4876920" cy="3926520"/>
          </a:xfrm>
        </p:grpSpPr>
        <p:sp>
          <p:nvSpPr>
            <p:cNvPr id="99" name="_s1028"/>
            <p:cNvSpPr/>
            <p:nvPr/>
          </p:nvSpPr>
          <p:spPr>
            <a:xfrm flipH="1" flipV="1">
              <a:off x="4783320" y="3556800"/>
              <a:ext cx="5997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_s1029"/>
            <p:cNvSpPr/>
            <p:nvPr/>
          </p:nvSpPr>
          <p:spPr>
            <a:xfrm>
              <a:off x="3547800" y="2902320"/>
              <a:ext cx="1266480" cy="1059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Закључак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репорук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_s1030"/>
            <p:cNvSpPr/>
            <p:nvPr/>
          </p:nvSpPr>
          <p:spPr>
            <a:xfrm flipH="1">
              <a:off x="5240160" y="4314240"/>
              <a:ext cx="37368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1"/>
            <p:cNvSpPr/>
            <p:nvPr/>
          </p:nvSpPr>
          <p:spPr>
            <a:xfrm>
              <a:off x="4237200" y="4677120"/>
              <a:ext cx="1266480" cy="10591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валитет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доказ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6356880" y="4314240"/>
              <a:ext cx="37188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467040" y="4677120"/>
              <a:ext cx="1266480" cy="10591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Евалуација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литератур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4"/>
            <p:cNvSpPr/>
            <p:nvPr/>
          </p:nvSpPr>
          <p:spPr>
            <a:xfrm flipV="1">
              <a:off x="6587640" y="3558600"/>
              <a:ext cx="6019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5"/>
            <p:cNvSpPr/>
            <p:nvPr/>
          </p:nvSpPr>
          <p:spPr>
            <a:xfrm>
              <a:off x="7158240" y="2902320"/>
              <a:ext cx="1266480" cy="10591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одговарајућ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информациј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6"/>
            <p:cNvSpPr/>
            <p:nvPr/>
          </p:nvSpPr>
          <p:spPr>
            <a:xfrm flipV="1">
              <a:off x="5985360" y="2827080"/>
              <a:ext cx="0" cy="52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7"/>
            <p:cNvSpPr/>
            <p:nvPr/>
          </p:nvSpPr>
          <p:spPr>
            <a:xfrm>
              <a:off x="5318640" y="1809720"/>
              <a:ext cx="1266480" cy="10591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линичко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итањ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8"/>
            <p:cNvSpPr/>
            <p:nvPr/>
          </p:nvSpPr>
          <p:spPr>
            <a:xfrm>
              <a:off x="5318640" y="3393720"/>
              <a:ext cx="1266480" cy="10591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900" spc="-1" strike="noStrike">
                  <a:solidFill>
                    <a:srgbClr val="000000"/>
                  </a:solidFill>
                  <a:latin typeface="Verdana"/>
                </a:rPr>
                <a:t>ФЗД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AutoShape 31"/>
            <p:cNvSpPr/>
            <p:nvPr/>
          </p:nvSpPr>
          <p:spPr>
            <a:xfrm>
              <a:off x="6857280" y="2056320"/>
              <a:ext cx="684720" cy="76212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639371"/>
                  <a:lnTo>
                    <a:pt x="2064" y="4450"/>
                  </a:lnTo>
                  <a:arcTo wR="10800" hR="10800" stAng="-8639371" swAng="863937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" name="AutoShape 30"/>
          <p:cNvSpPr/>
          <p:nvPr/>
        </p:nvSpPr>
        <p:spPr>
          <a:xfrm>
            <a:off x="6858000" y="2057400"/>
            <a:ext cx="685800" cy="762120"/>
          </a:xfrm>
          <a:custGeom>
            <a:avLst/>
            <a:gdLst>
              <a:gd name="textAreaLeft" fmla="*/ 100440 w 685800"/>
              <a:gd name="textAreaRight" fmla="*/ 585360 w 68580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071" y="5399"/>
                  <a:pt x="7447" y="6227"/>
                  <a:pt x="6431" y="7625"/>
                </a:cubicBezTo>
                <a:lnTo>
                  <a:pt x="2063" y="4450"/>
                </a:lnTo>
                <a:cubicBezTo>
                  <a:pt x="4095" y="1654"/>
                  <a:pt x="7343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541C-75FE-48E6-8BFE-CFD202F0E1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 је заснована н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Verdana"/>
              </a:rPr>
              <a:t>научном метод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дентификовање проблем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икупљање информ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валуација информ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епору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сход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оред тога на доношење одлука утич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скуств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уторите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страживањ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Логичко размишљањ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5069-D54C-40EC-9180-3A601F12E0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је интеграција клиничког искуства, система вредности пацијента и најбољих доказа из литератур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кази сами по себи не доводе до закључака, већ само помажу у одређивању најбољег третмана пацијент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A2DB-217E-4187-9DB5-A4EDA32E8E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Постављање пробле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рад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а болесн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ма се спонтано јављај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и које морамо р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ват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 на основ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и </a:t>
            </a:r>
            <a:r>
              <a:rPr b="1" i="1" lang="ru-RU" sz="2600" spc="-1" strike="noStrike">
                <a:solidFill>
                  <a:srgbClr val="ff0000"/>
                </a:solidFill>
                <a:latin typeface="Verdana"/>
              </a:rPr>
              <a:t>постављамо питањ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која потом тр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мо одгово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и се јављај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ставља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агнозе боле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ива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њеног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ро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бор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агност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тода које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 најпре довести до дијагноз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бор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на л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ња 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р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ва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гнозе лечења болесник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EDB5-CE62-4A44-BD8F-0A3FDA93CA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ње проблема много зависи од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равилног постављања пит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бро постављено питање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ек има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4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елемента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но д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ф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нисано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која се планир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алтернативн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 којом се планирана интерве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р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ђ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с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који се о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к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во примера добро постављеног питањ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а ли код болесника с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х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он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ом ср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аном инс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уф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је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јом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3.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тепен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имена АЦ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битор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планирана интервен</a:t>
            </a:r>
            <a:r>
              <a:rPr b="0" i="1" lang="sr-CS" sz="1700" spc="-1" strike="noStrike">
                <a:solidFill>
                  <a:srgbClr val="336699"/>
                </a:solidFill>
                <a:latin typeface="Verdana"/>
              </a:rPr>
              <a:t>ц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мањ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је смртност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ис</a:t>
            </a:r>
            <a:r>
              <a:rPr b="0" i="1" lang="sr-CS" sz="1700" spc="-1" strike="noStrike">
                <a:solidFill>
                  <a:srgbClr val="336699"/>
                </a:solidFill>
                <a:latin typeface="Verdana"/>
              </a:rPr>
              <a:t>х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од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 ил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ање од блокатора р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птора за ангиотензи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алтернативна интервен</a:t>
            </a:r>
            <a:r>
              <a:rPr b="0" i="1" lang="sr-CS" sz="1700" spc="-1" strike="noStrike">
                <a:solidFill>
                  <a:srgbClr val="336699"/>
                </a:solidFill>
                <a:latin typeface="Verdana"/>
              </a:rPr>
              <a:t>ц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3DF0-1D77-45EB-BCFB-E069995D1D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де и како тра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мо одговоре на питања која постављамо током третман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е свега треба претр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т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азе подата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на Интернет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је садр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 систематске прегледн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анке о појединим клин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им проблеми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најпоузданија од таквих база је 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Кохранова база подата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јер су сви ситематски прегледни чланци у њој рађени према методолошким принципима МЗ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9-12T21:39:2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